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ABD-BFCE-4C6B-AA18-BAB172D3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99C-7955-4CE1-AB77-49042623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EC3-A0A4-41D6-BE88-7BA0B132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217-366B-447C-8484-DAD417CA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9E78-BEA1-4EA1-A57D-113E8CC5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18A4-6410-4B31-915D-FBD68B29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09A2-279C-445A-845F-78E7BFC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0866-37B9-47A3-ADB2-DEF01F1D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F23F-1296-4E39-A006-40BCAB80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27A0-1170-4DAA-A860-174CD9DF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6098-4E26-47ED-881C-AE4A3FC4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106-528F-4AB1-99AA-0890B94E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0B1A-C47C-4782-9DD8-25E80018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CC7E-19EC-48CA-B8A0-70D14799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C5BD-A276-43DF-9F75-1880D3AC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F516-5673-4E1F-B6C3-15C15F16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9C52-FAEB-4B4B-8456-8FE52AAB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C0C-7729-4A7A-9567-118017F5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E1C-A92A-4924-956C-52EEB82C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21C-FE3C-4352-8A3F-65461654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2F2-EF61-4D0B-8DC8-13CEB442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C50-C07C-4E60-A468-2B1BA67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A9E-5567-427E-BE09-037E8DF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E49-4496-4FA5-A013-9D3CD7F1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8645-9EF0-4960-91E0-49D34CC83D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B8C2-6CB1-4F59-B777-A8F09C126A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animalpix.ru/wallpapers/276.html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69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собенности подбора певчих и декоративных птиц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иноземного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оисхождения в уголках природы разных возрастных групп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Попугаи фото"/>
          <p:cNvPicPr/>
          <p:nvPr/>
        </p:nvPicPr>
        <p:blipFill>
          <a:blip r:embed="rId1"/>
          <a:stretch/>
        </p:blipFill>
        <p:spPr>
          <a:xfrm>
            <a:off x="3048120" y="4724280"/>
            <a:ext cx="350496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попугаи - пара попугаев сидят на жердочке, для мобильного телефона"/>
          <p:cNvPicPr/>
          <p:nvPr/>
        </p:nvPicPr>
        <p:blipFill>
          <a:blip r:embed="rId2"/>
          <a:stretch/>
        </p:blipFill>
        <p:spPr>
          <a:xfrm>
            <a:off x="990720" y="4724280"/>
            <a:ext cx="17618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Обои для рабочего стола - Ар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4724280"/>
            <a:ext cx="205740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57800" y="380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 студентка -Вахнина Ю., 636 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Младшая групп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Птица в клетке как временный объе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81952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040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репить название птицы, знание характерных признаков внешнего вида (отметить, что у птицы есть перья, крылья, она летает; клюёт зёрнышки и т.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едня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6483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502920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71600" y="5029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69080" y="46483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133720"/>
            <a:ext cx="792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ить и дополнить знания детей о внешнем виде и повадках птиц. Учить более точно описывать птиц (у неё маленькая голова; маленькие чёрные круглые глаза; тонкие ножки, на них пальцы и т.д.). Расширить знания детей о повадках птички: она купается в воде, чистит пёрышки, поёт. Уточнить и дополнить знания о птичках, её корме. Укреплять интерес к птицам и уходу за ней. Закрепить знания слов: кормушка, купалка, поилк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рша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48560" y="6248160"/>
            <a:ext cx="145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657600" y="525780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18480" y="47293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точнить знания детей о повадках птиц. Продолжать воспитывать бережное отношение к ним и желание заботиться о хорошем их состоянии. Разнообразить работу дежурных по уходу за птицами, живущих в уголке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дготовительная группа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57320" y="4724280"/>
            <a:ext cx="183816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5943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лнистый попугай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371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5943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72200" y="4724280"/>
            <a:ext cx="1981080" cy="1219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781680" y="2362320"/>
            <a:ext cx="205740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81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828800"/>
            <a:ext cx="5638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ить и расширить знания детей о птицах, живущих в уголке природы. Познакомить с новым жильцом уголка – волнистым попугайчиком. Показать своеобразие внешнего вида и повадок: у него загнутый клюв с восковицей, длинный свисающий хвост, на ногах 2 пальца, направленных вперёд, 1 – назад, окраска пёстрая, рисунок в виде волн, попугайчик летает и лазает. Учить сравнивать попугайчика с другими птицами, отмечая различия и сх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D312</cp:lastModifiedBy>
  <dcterms:modified xsi:type="dcterms:W3CDTF">2010-05-17T06:46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